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970-BB0A-4A5D-84CA-A45D047F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845-C336-4D59-9C20-19888636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3D6-6625-4DE0-AF58-96606994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2B4-AC2A-4C26-8CD8-F348A937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A2C-4460-49DD-8EB5-12E9CD77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4F4-07AB-44D5-9918-63341BA5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7AD-2827-45E4-8DCD-C51811DA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9B3-8581-4226-8126-F28300DA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CDB-6E9F-47D2-B982-D0B13B8A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339-C3AE-4490-A6A5-D10ED09B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A918-CEC0-47C7-A11E-DA7B2583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C2D-B73C-4FAC-B2AD-CBC46E29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5BE-8F5F-4406-92F0-0A006FCEA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28600" y="0"/>
            <a:ext cx="8683560" cy="3449880"/>
            <a:chOff x="228600" y="0"/>
            <a:chExt cx="8683560" cy="34498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606600" y="228600"/>
              <a:ext cx="8305560" cy="28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578400" y="0"/>
              <a:ext cx="464796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TC          R-P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PerCP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  Qdot 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30/30      575/26                    675/20                       780/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1160" y="30492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ue 488 nm Excitation L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30280" y="2895480"/>
              <a:ext cx="838188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                         400                         500                          600                          700                          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velength, in n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200000">
              <a:off x="-1018800" y="1474200"/>
              <a:ext cx="304956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cent fluorescence emiss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20       40       60      80      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280" y="0"/>
            <a:ext cx="7543800" cy="3449880"/>
            <a:chOff x="152280" y="0"/>
            <a:chExt cx="7543800" cy="344988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39640" y="392040"/>
              <a:ext cx="7156440" cy="265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527280" y="312840"/>
              <a:ext cx="5130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352680" y="0"/>
              <a:ext cx="385128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lexa Fluor 647       Alexa Fluor 7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60/20                        730/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2895480"/>
              <a:ext cx="67057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                    600                      650                  700                   7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velength, in n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6200000">
              <a:off x="-926640" y="1307520"/>
              <a:ext cx="2895480" cy="73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cent Fluorescence e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20       40      60      80     100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90720" y="380880"/>
              <a:ext cx="228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d 633 nm excitation l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0"/>
            <a:ext cx="6561360" cy="3449880"/>
            <a:chOff x="380880" y="0"/>
            <a:chExt cx="6561360" cy="34498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760320" y="228600"/>
              <a:ext cx="5869080" cy="28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360520" y="0"/>
              <a:ext cx="1447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xCycle Vio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50/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2895480"/>
              <a:ext cx="502920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                          450                          500                        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avelength, in n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037040" y="304920"/>
              <a:ext cx="290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olet 405 nm excitation l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-827640" y="1360440"/>
              <a:ext cx="297180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cent Fluorescence e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      20       40      60       80     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228240"/>
            <a:ext cx="9144000" cy="3050640"/>
            <a:chOff x="0" y="228240"/>
            <a:chExt cx="9144000" cy="3050640"/>
          </a:xfrm>
        </p:grpSpPr>
        <p:grpSp>
          <p:nvGrpSpPr>
            <p:cNvPr id="64" name=""/>
            <p:cNvGrpSpPr/>
            <p:nvPr/>
          </p:nvGrpSpPr>
          <p:grpSpPr>
            <a:xfrm>
              <a:off x="0" y="228240"/>
              <a:ext cx="9144000" cy="3048120"/>
              <a:chOff x="0" y="228240"/>
              <a:chExt cx="9144000" cy="304812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0" y="228600"/>
                <a:ext cx="3200400" cy="3047760"/>
                <a:chOff x="0" y="228600"/>
                <a:chExt cx="3200400" cy="304776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8600" y="685800"/>
                  <a:ext cx="2741760" cy="228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228600" y="228600"/>
                  <a:ext cx="29718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MO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 CD105-Alexa Fluor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®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7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6200000">
                  <a:off x="-1218960" y="1523160"/>
                  <a:ext cx="29718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D105-Alexa Fluor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®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7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80880" y="2743200"/>
                  <a:ext cx="259092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D90-FI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57200" y="838080"/>
                  <a:ext cx="685800" cy="21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209680" y="838080"/>
                  <a:ext cx="68580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9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286000" y="251460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9.1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943600" y="228240"/>
                <a:ext cx="3200400" cy="3048120"/>
                <a:chOff x="5943600" y="228240"/>
                <a:chExt cx="3200400" cy="304812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5943600" y="228240"/>
                  <a:ext cx="3200400" cy="3048120"/>
                  <a:chOff x="5943600" y="228240"/>
                  <a:chExt cx="3200400" cy="304812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6172200" y="304560"/>
                    <a:ext cx="2971800" cy="53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Full Pane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685800"/>
                    <a:ext cx="27417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" name=""/>
                  <p:cNvSpPr/>
                  <p:nvPr/>
                </p:nvSpPr>
                <p:spPr>
                  <a:xfrm rot="16200000">
                    <a:off x="4724280" y="1447200"/>
                    <a:ext cx="2971800" cy="53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D105-Alexa Fluor</a:t>
                    </a:r>
                    <a:r>
                      <a:rPr b="0" lang="en-US" sz="12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®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700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6324480" y="2743200"/>
                    <a:ext cx="2438640" cy="5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CD90-FIT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" name=""/>
                <p:cNvSpPr/>
                <p:nvPr/>
              </p:nvSpPr>
              <p:spPr>
                <a:xfrm>
                  <a:off x="6400800" y="838080"/>
                  <a:ext cx="685800" cy="21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620120" y="2514600"/>
                  <a:ext cx="685800" cy="21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229600" y="83808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9.6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8305920" y="2514600"/>
                  <a:ext cx="53316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4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971800" y="228600"/>
                <a:ext cx="3124080" cy="3047760"/>
                <a:chOff x="2971800" y="228600"/>
                <a:chExt cx="3124080" cy="30477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124080" y="228600"/>
                  <a:ext cx="29718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MO </a:t>
                  </a:r>
                  <a:br>
                    <a:rPr sz="1200"/>
                  </a:b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 CD90-FI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00400" y="685800"/>
                  <a:ext cx="2741760" cy="228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3124080" y="2743200"/>
                  <a:ext cx="2971800" cy="5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D90-FIT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6200000">
                  <a:off x="1752480" y="1523160"/>
                  <a:ext cx="2971800" cy="53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D105-Alexa Fluor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®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70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181480" y="2514600"/>
                  <a:ext cx="685800" cy="214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257800" y="83808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1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505320" y="83808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99.7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505320" y="2514600"/>
                  <a:ext cx="609480" cy="246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.3%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2" name=""/>
            <p:cNvSpPr/>
            <p:nvPr/>
          </p:nvSpPr>
          <p:spPr>
            <a:xfrm>
              <a:off x="457200" y="2971800"/>
              <a:ext cx="30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97180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76720" y="297180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048120" y="2895120"/>
            <a:ext cx="3276360" cy="2410560"/>
            <a:chOff x="3048120" y="2895120"/>
            <a:chExt cx="3276360" cy="2410560"/>
          </a:xfrm>
        </p:grpSpPr>
        <p:grpSp>
          <p:nvGrpSpPr>
            <p:cNvPr id="97" name=""/>
            <p:cNvGrpSpPr/>
            <p:nvPr/>
          </p:nvGrpSpPr>
          <p:grpSpPr>
            <a:xfrm>
              <a:off x="3048120" y="2895120"/>
              <a:ext cx="3276360" cy="2410560"/>
              <a:chOff x="3048120" y="2895120"/>
              <a:chExt cx="3276360" cy="2410560"/>
            </a:xfrm>
          </p:grpSpPr>
          <p:pic>
            <p:nvPicPr>
              <p:cNvPr id="9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2895480"/>
                <a:ext cx="274176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3200400" y="5029200"/>
                <a:ext cx="3124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lick-iT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®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EdU Alexa Fluor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®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647az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2018520" y="3924360"/>
                <a:ext cx="233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u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952880" y="4114800"/>
                <a:ext cx="76212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1.3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5410080" y="30481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19920" y="2895120"/>
            <a:ext cx="2894040" cy="2410560"/>
            <a:chOff x="6019920" y="2895120"/>
            <a:chExt cx="2894040" cy="2410560"/>
          </a:xfrm>
        </p:grpSpPr>
        <p:grpSp>
          <p:nvGrpSpPr>
            <p:cNvPr id="104" name=""/>
            <p:cNvGrpSpPr/>
            <p:nvPr/>
          </p:nvGrpSpPr>
          <p:grpSpPr>
            <a:xfrm>
              <a:off x="6019920" y="2895120"/>
              <a:ext cx="2894040" cy="2410560"/>
              <a:chOff x="6019920" y="2895120"/>
              <a:chExt cx="2894040" cy="24105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2200" y="2895480"/>
                <a:ext cx="274176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6477120" y="5029200"/>
                <a:ext cx="228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xCycle™ Viole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6200000">
                <a:off x="4990320" y="3924360"/>
                <a:ext cx="233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u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05720" y="3352680"/>
                <a:ext cx="609480" cy="24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1.5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8458200" y="3048120"/>
              <a:ext cx="3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1800" y="152280"/>
            <a:ext cx="3200400" cy="2562480"/>
            <a:chOff x="2971800" y="152280"/>
            <a:chExt cx="3200400" cy="2562480"/>
          </a:xfrm>
        </p:grpSpPr>
        <p:sp>
          <p:nvSpPr>
            <p:cNvPr id="111" name=""/>
            <p:cNvSpPr/>
            <p:nvPr/>
          </p:nvSpPr>
          <p:spPr>
            <a:xfrm rot="16200000">
              <a:off x="1967040" y="115704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xCycle™ Violet Area Sig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3200400" y="152280"/>
              <a:ext cx="29718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962520" y="30492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inglet 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38680" y="304920"/>
              <a:ext cx="38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2438280"/>
              <a:ext cx="23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xCycle™ Violet  Width Sig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2895480"/>
            <a:ext cx="2894040" cy="2441520"/>
            <a:chOff x="0" y="2895480"/>
            <a:chExt cx="2894040" cy="2441520"/>
          </a:xfrm>
        </p:grpSpPr>
        <p:grpSp>
          <p:nvGrpSpPr>
            <p:cNvPr id="117" name=""/>
            <p:cNvGrpSpPr/>
            <p:nvPr/>
          </p:nvGrpSpPr>
          <p:grpSpPr>
            <a:xfrm>
              <a:off x="0" y="2895480"/>
              <a:ext cx="2894040" cy="2441520"/>
              <a:chOff x="0" y="2895480"/>
              <a:chExt cx="2894040" cy="2441520"/>
            </a:xfrm>
          </p:grpSpPr>
          <p:pic>
            <p:nvPicPr>
              <p:cNvPr id="1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52280" y="2895480"/>
                <a:ext cx="2741760" cy="228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457200" y="5029200"/>
                <a:ext cx="228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FxCycle™ Viole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-1028880" y="4031280"/>
                <a:ext cx="2334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u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8280" y="3048120"/>
                <a:ext cx="381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62120" y="3200400"/>
              <a:ext cx="5331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66680" y="4572000"/>
              <a:ext cx="5335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472428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7200" y="5715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9:45:25Z</dcterms:created>
  <dc:creator>jolene.bradford</dc:creator>
  <dc:description/>
  <dc:language>en-US</dc:language>
  <cp:lastModifiedBy>lucas.chase</cp:lastModifiedBy>
  <dcterms:modified xsi:type="dcterms:W3CDTF">2010-02-20T18:57:40Z</dcterms:modified>
  <cp:revision>13</cp:revision>
  <dc:subject/>
  <dc:title>Slide 1</dc:title>
</cp:coreProperties>
</file>